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FA47-04E3-4DFB-AA8F-E6043A1A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E090-2847-4880-B84D-FD030D6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E982-B8D1-49A7-863C-B5049D06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58A5-0926-484F-B87B-9A51EA06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7FFD-E742-4048-A611-5F66ED3A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9E30-C216-48BC-B89C-318AB885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2047-3D95-4EDB-86E3-56D8A89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06D3-F155-4012-A172-F09BF214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E5A6-AECF-4360-B6C2-A105C62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0350-3478-46D0-8B2B-FAB9897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E5E9-54D7-4C61-A98F-B3DE23D0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C530-8B85-41C8-A98E-4D7F833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C58F-457D-4A85-BBAA-EF981674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0CEA-BC1F-4923-A8A3-AE2E614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284A-6759-4DCA-87C6-4DF0ED4F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3358-A99E-4976-B66B-10D7FD72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ADF3-DBD9-46DF-BB17-C4E24AEE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3834-A23A-40C0-BE5E-AA9C0B74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42DD-9C5D-4B80-B62E-4733718C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EF7C-9476-4E9D-83FB-8F4D35BA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1828-03D8-4075-8CEB-C31ABA24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D919-6713-451F-B0EA-DE952B0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5504-B289-462A-9D78-2B13D90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9BB8-0D68-4983-8483-2685B95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0572-7CB7-4820-BD46-1E03784ED9E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709C-627E-4EC8-94B7-7D9E459B0E4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471600"/>
            <a:ext cx="9325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(Пр.42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Бисерът красен, блестящ и голям не е за мен, не е за мен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ная, цена му ще спадне съвсем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 е за мен, не е за мен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руг един бисер аз търся сега, бисер, що има голяма цен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е в небесната вечна страна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е за мен, той е за мен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252360" y="1442880"/>
            <a:ext cx="96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Царският жезъл и царский вене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 са за мен, не са за мен: знам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мърт и тях ще отнеме в конец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 са за мен, не са за мен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руг има купен чрез кръста Христов венец за тез, що живеят в любов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Бог-сърцевед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 даде е готов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е за мен, той е за мен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6360" y="1461960"/>
            <a:ext cx="92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ътят широк, в който ходи светът, не е за мен, не е за мен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е и глупав, и гибелен път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е е за мен, не е за мен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руг път познавам аз на мъдростт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правдата вечна чрез вяра в Христа; води към Бога и безсмъртността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е за мен, той е'за мен!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2-10T07:37:16Z</dcterms:modified>
  <cp:revision>63</cp:revision>
  <dc:subject/>
  <dc:title>Slide 1</dc:title>
</cp:coreProperties>
</file>